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5BC2-8453-4982-9D46-414F65449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G: Lessless Global: max(diff(ecg)) &lt; 128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7 bi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8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G’: Lossey Global: mean(diff(ecg)) &lt; 8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bi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gt;2x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L: Lossless Local: 4x-5x improvement before extra bi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x-3x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less: Del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ey: 5% RLE w/ Codeword Siz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er Energy to Burst Data Block Decreased by Less Data to Transmit Plus Core Execu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tooth Energy to Transmit Ra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TTER, Break Even at ‘1’, Infinite Improvement at ‘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4920" y="401076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548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1664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872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492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1664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872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49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548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IC Node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ssion Heuristics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.I.N.C.H.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Final Design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44953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Georgia"/>
              </a:rPr>
              <a:t>Steve Jocke, Kyle Ringgenberg, Stuart Wooter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777777"/>
                </a:solidFill>
                <a:latin typeface="Georgia"/>
              </a:rPr>
              <a:t>&lt;scj4s, kringg, wooters&gt;@virginia.edu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324480" cy="4754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47242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32960" y="441972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er Tail, but no Bit Ch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04920" y="1219320"/>
          <a:ext cx="8839080" cy="589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19320"/>
                    <a:ext cx="883908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l Variants Require Additional Sign Bi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Rati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cre – Significant Degree of Overhea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cre – Fidelity is Data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ecution in O(n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ression 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295280"/>
          <a:ext cx="8839080" cy="589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295280"/>
                    <a:ext cx="883908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057400" y="3429000"/>
            <a:ext cx="1066680" cy="3808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er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Vdd 1.2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ve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GHz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23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ve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GHz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6.67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19720" y="2438280"/>
          <a:ext cx="4495680" cy="286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438280"/>
                    <a:ext cx="449568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GHz Local Oscillat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Delay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.626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471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un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050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f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.39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9880" y="2666880"/>
          <a:ext cx="5334120" cy="254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2666880"/>
                    <a:ext cx="53341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 – 3 Stage Inverter and Buffer 1.5 GH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Tim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Energy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92p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tartup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vg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02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f Power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gh Speed Power Examp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VCO Core: 1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1 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51GHz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ixer:97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9-50GHz Gilbert Cel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mplifier 54mW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60GHz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.52nJ/bit (100Mbp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3.04μJ/2Kbit (100Mbps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86728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Tiebout, M.; Wohlmuth, H.-D.; Simburger, W., "A 1V 51GHz fully-integrated VCO in 0.12/spl mu/m CMOS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lid-State Circuits Con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 2002. Digest of Technical Papers. ISSCC. 2002 IEEE Internation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2, no., pp.238-239,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Lin, C.-S.; Wu, P.-S.; Chang, H.-Y.; Wang, H., "A 9-50-GHz Gilbert-cell down-conversion mixer in 0.13-/spl mu/m CMOS technology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icrowave and Wireless Components Letters, IEE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16, no.5, pp. 293-295, May 200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oan, C.H.; Emami, S.; Niknejad, A.M.; Brodersen, R.W., "Millimeter-wave CMOS design,"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lid-State Circuits, IEEE Journal o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, vol.40, no.1, pp. 144-155, Jan. 200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wer Consumption of PIC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No Compressio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Engr_nopres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8000" y="6400800"/>
            <a:ext cx="16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 Consumption of PIC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easurement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sim Simulator used to measure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in MS (Mixed Signal / Analog M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PIC Power Summary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) NOP Inst Power 318.1nW (Averaged over 4 NOP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) AVG Inst Power 322.95nW (All runtime - 2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) AVG Inst Power 336.78nW  (Over Compression Algorith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) AVG Inst Power 324.46nW  (all runtime – 2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Inst Power  323.7n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Power Modes 1.51n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Consumption is about the same no matter what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free I-cycles recovers waste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ould throttle back clock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Data Flow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305240" y="3295800"/>
                <a:ext cx="5335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295280" y="2217600"/>
            <a:ext cx="7162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Totals for Communication Chann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5GH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 (Mixer + 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2.8p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5.6nJ/2K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Power (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.3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.5GH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 (Mixer + 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.06p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.1nJ/2K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Power (LO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8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2880" y="19807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luetoot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Energ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7.5pJ/bit – 165nJ/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eep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l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6248520"/>
            <a:ext cx="70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Roving Networks RN-41 V1.5 11/14/07 Docu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se Case (Bluetooth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(10/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8nJ/byte (Blueto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 Compres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8nJ/byte (Blueto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2.4n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25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ireles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(10/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4nJ/byte (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o Compres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24nJ/Sample (P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24nJ/byte (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752480"/>
            <a:ext cx="792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IC16C5X.UVa St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 Interrup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3 Input ports /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 output 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               32 Instr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voltage of 3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clock frequency of 800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divided down to 200Khz for PIC internal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ly 200 Instructions (I-cycles) between ADC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verhead requires approximately 30 I-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to track input values for gain adjustment to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s ~ 170 I-Cycles free for compression, second core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place Repetition with Occurrence Cou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: Only Identical Values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3]0 1 3 [2]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ey: Values with a Toleranc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[4]0 3 [3]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word Size – Max Repetitio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Size – Insert Repetition Code Every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x BLOCK =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erance – “Stray-abi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248520" cy="4697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248520" cy="4697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n Length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ll Variants Require Additional Repetition Block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ssion Ratio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– Worst Case is Worse than 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lent – Saturates to Best Compression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ecutable in O(n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place Values with Changes in Valu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less Global: Greatest </a:t>
            </a:r>
            <a:r>
              <a:rPr b="0" lang="el-GR" sz="1800" spc="-1" strike="noStrike">
                <a:solidFill>
                  <a:srgbClr val="4d4d4d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Dictates 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0 1 3 5 5 6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x 3-bit “Words”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2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7x 2-bit “Words”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14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 Local: Eac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eated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x 1-bit, 3x 2-bit “Word”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0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Data for “Word” 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ossey Global: Mean </a:t>
            </a:r>
            <a:r>
              <a:rPr b="0" lang="el-GR" sz="1800" spc="-1" strike="noStrike">
                <a:solidFill>
                  <a:srgbClr val="4d4d4d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Dictates 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0 0 1 2 2 2 1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x 1-bit </a:t>
            </a:r>
            <a:r>
              <a:rPr b="0" lang="en-US" sz="18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coded as: 0 0 0 1 2 3 4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6325920" cy="4756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ta Enco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27432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44956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9440" y="2438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ghtly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31880" y="41911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9:00:52Z</dcterms:created>
  <dc:creator>David Robinson</dc:creator>
  <dc:description/>
  <dc:language>en-US</dc:language>
  <cp:lastModifiedBy>snw7f</cp:lastModifiedBy>
  <dcterms:modified xsi:type="dcterms:W3CDTF">2008-05-01T13:05:09Z</dcterms:modified>
  <cp:revision>18</cp:revision>
  <dc:subject/>
  <dc:title>PowerPoint Presentation</dc:title>
</cp:coreProperties>
</file>